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A605-0AB9-4172-924E-1B6665DA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s of thank you notes, refer to Page 80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dvanced Techniques for Work Search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lberta Employment Immigration and Indust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01D7-4A66-43CC-BCE3-7F6BE764F2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ind students that screening starts BEFORE the interview!  Ex. If an employer has seen you around town, if you have spoke on the phone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120-70C0-4259-9A04-0BDE9072D9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Large companies often hire for different positions all at once, they may feel you are suitable for a position you did not apply f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age 87 from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dvanced Techniques for Work Search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lberta Employment Immigration and Indust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n extensive list of questions you may want to ask when arranging for an int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11CE-459B-448A-B976-025617D06A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61B-5D22-4480-AF36-B4960D48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AC9-B647-4BEC-B933-544C982F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316-9FE1-4DE6-B5BD-1093307B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191-2926-420E-A33A-A14ACB40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9BC3-8A61-4CDF-8C14-97753743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6872-F3C9-4E0E-8B19-829D9AE3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8521-FABA-46E6-86B4-10F0A299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D029-2549-4D3A-9B2C-7F187651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4795-43F2-4C1D-B323-787AD9AE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7F99-A66D-4CCD-BDE9-31EFCD1D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7DD8-F0C9-49DF-8B9A-E0CC826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DE3-3341-4A06-B0B7-167C1BED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F512-DA1F-4921-9C18-D1239391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C544-CF64-41C0-A96D-A7BC086B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E22D-243B-4343-9FAF-EEB35B41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01FD-0FB6-4D7D-A0BC-E896F8CF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6EE4-45E8-4CFD-8539-5BD589C6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513D-AB8D-4812-A4E4-68239157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0BBE-7FD4-418E-AB7A-43801E7E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4F8B-F653-4AE9-8652-D6A868E0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7A71-9E93-44DB-B88F-3D20D28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62F9-A8E6-40DF-B880-5388BDDB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AB4-5926-47F1-BB01-92273D83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EB2A-4F6A-44BA-8564-7B29C94F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2AD6-0DDE-4A2D-B54D-769DA374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CD84-AF08-4973-BB83-1D087077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E49A-0B07-4527-A1A9-E2683656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298B-18AD-4254-9B4D-297A7B3C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1F7A-3FAB-4D66-8A18-755B23D7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3F03-D4E2-4856-BCB9-82E793B9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5903-C4BD-4CF9-A474-585AEE2E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6240-61AC-4329-A4BA-22047729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498A3-186E-4E1E-9D2A-A65CD716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935-B3D3-447D-A10C-5BDDEB8C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AC457-1D64-4094-AD5D-3D38017D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0567-8AAD-4121-9408-BD031CEC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5209-D6F4-4E46-A507-1379803A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9265-E16F-4825-AF85-512FCD1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3D08-9ABF-4B4F-A17E-82F0960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AC864-8A2E-41D5-A981-27AECBE1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A52F-A498-4C89-AFE9-E4495A08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5862-2F7C-4974-A9B6-F628FBEA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5609D-6D62-4D39-B581-4E0043E6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B3A6-73D5-45D9-A794-7183872B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B13-0109-4C3B-AC83-96AAFC64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9410-7637-41FA-AE71-D5B8FFBB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6FB4-5680-4EC0-AF62-54A538DE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A14F0-19A2-4FAE-89F6-9113C5A3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6D5D2-D26F-4FBF-A26B-503FF1F9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054F8-BCF2-4B66-AC9F-A2CF24CD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C411-2712-4F01-899E-DAFD751C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FDACD-FEDB-4AD0-95ED-C99E3DDA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858EC-4647-4A95-9252-45EC0024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BB00-7EBC-4E4F-8643-E970B3E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7DB52-BCE5-4423-9FD1-918373F5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893-1400-40CC-A6C9-6F797FEC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280C7-EB38-4213-8FAA-528CA574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0E6EA-3B9F-4ADA-9EF7-5A4818AE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1A47-9CC3-4379-9833-2CF6084B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B606-ECAE-47E0-B7C4-0B24D7B5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CE1C-8FD3-4E34-8104-A39BF620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A0F94-14FF-47A3-B681-E25EFE87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8C91-B898-4E7A-B6F2-6E5D6280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E589C-38C1-49E4-8B34-7512605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31857-18B1-45C2-BEF0-FDF81E6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E3D1-4C29-4651-9F90-2418C9CF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BC3-29E6-4981-8164-FFF97BB3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9DC3-5D9D-4683-8C67-66D0A047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C1926-9A90-4B0F-BB05-BF284618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22A4D-4D9B-4C7E-8CD6-EF67CDAF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19469-81BE-4D0E-A64C-E704C163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14077-85BE-4B8E-BC33-AA9C0CA0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DB576-5339-4296-984F-82EE94F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BFA64-386A-407C-8CF7-9EA80DC8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3AF1-4E2C-4C11-B087-948E56A8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5C73E-A888-4D89-A7F3-B1B05461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7D680-841A-43BE-B6FD-25B1300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F13-C46F-476D-B9DA-A996E992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57CEC-E0E9-47FE-8725-2F705B5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69E38-F106-448B-824C-BC997508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6EA5D-3550-4264-9577-D7E9F75C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FB688-0D4B-4D42-8B6B-BDA67B48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A70E-94C5-40A2-8945-6ED0C5A0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E6A-BDFD-4460-9AF2-0BAA3EC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48C-A4CD-48D5-AFC9-039D8908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0F81-6210-4E39-ACCB-10E974BA16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0328-46AA-4DBD-86EE-3228279B7C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955C-3998-43BC-8A3A-406EB95EA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1CB-9513-4E5D-BC7B-A40CFDB3F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F829-CC5A-4F94-AD3C-A409F931D2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2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2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E4E3-2398-4AA1-B386-7C3930E37D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view Skills Buil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ly Johnst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 Alberta Career Pre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Central Alberta Career Prep LOGO.JPG"/>
          <p:cNvPicPr/>
          <p:nvPr/>
        </p:nvPicPr>
        <p:blipFill>
          <a:blip r:embed="rId1"/>
          <a:stretch/>
        </p:blipFill>
        <p:spPr>
          <a:xfrm>
            <a:off x="6934320" y="5181480"/>
            <a:ext cx="192240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uld you ask about money?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rtant to ask the question in a way that shows the employer that wages are not your greatest interes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entry-level pay for a job like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pay range for this posi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Picture 6" descr="green money sign"/>
          <p:cNvPicPr/>
          <p:nvPr/>
        </p:nvPicPr>
        <p:blipFill>
          <a:blip r:embed="rId1"/>
          <a:stretch/>
        </p:blipFill>
        <p:spPr>
          <a:xfrm rot="20179800">
            <a:off x="533520" y="5029200"/>
            <a:ext cx="1249200" cy="1293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Money Sign"/>
          <p:cNvPicPr/>
          <p:nvPr/>
        </p:nvPicPr>
        <p:blipFill>
          <a:blip r:embed="rId2"/>
          <a:stretch/>
        </p:blipFill>
        <p:spPr>
          <a:xfrm>
            <a:off x="6248520" y="2895480"/>
            <a:ext cx="2079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Why is it important for us to know our skills and abilities?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we know our skills and abilities we are able to </a:t>
            </a:r>
            <a:r>
              <a:rPr b="0" i="1" lang="en-US" sz="2200" spc="-1" strike="noStrike">
                <a:solidFill>
                  <a:srgbClr val="4f747b"/>
                </a:solidFill>
                <a:latin typeface="Arial"/>
              </a:rPr>
              <a:t>speak confident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4f747b"/>
                </a:solidFill>
                <a:latin typeface="Arial"/>
              </a:rPr>
              <a:t>in detai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o the employer knows what we have to off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3b575c"/>
                </a:solidFill>
                <a:latin typeface="Arial"/>
              </a:rPr>
              <a:t>best way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demonstrate your skills is to tell a brief story about your skill and the way you have used it in the past, then relate the skill to the potential jo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0" descr="scared man"/>
          <p:cNvPicPr/>
          <p:nvPr/>
        </p:nvPicPr>
        <p:blipFill>
          <a:blip r:embed="rId1"/>
          <a:stretch/>
        </p:blipFill>
        <p:spPr>
          <a:xfrm rot="1123800">
            <a:off x="5943600" y="2666520"/>
            <a:ext cx="1908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uring football practice, I have to keep daily attendance and prepare equipment prior to practice.  My coaches have described me as reliable, independent, and as a person who takes initiati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Arial"/>
              </a:rPr>
              <a:t>I am responsible for the daily feeding and care of four horses.  This requires that I be outside working in all weather without being asked.  This demonstrates my ability to be motivated, punctual, and responsible which you have indicated are all important to this 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 was a babysitter for a family with 3 children.  I prepared meals and did general house clean up.  I babysat for this family for 2 yrs; the family has given me a reference letter that describes me as responsible, caring, and tidy.  This letter is in my portfolio if you would like to read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685800" y="2286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457200" y="380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 of the hat practice question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one challenging question you may be asked at an interview; write it on a small piece of pap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a piece of paper; read the question to your classmates and then answer it to the best of your 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lass will have the opportunity to add to other ways the question could be answ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ame Sho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groups of students, 3 individual jud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group will have a position they are applying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layground supervis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st food restaurant work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olf course maintenance work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rm h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air salon assista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rocery carry-out pers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the best answer to the 3 questions based on the position you are applying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5" descr="scared man"/>
          <p:cNvPicPr/>
          <p:nvPr/>
        </p:nvPicPr>
        <p:blipFill>
          <a:blip r:embed="rId1"/>
          <a:stretch/>
        </p:blipFill>
        <p:spPr>
          <a:xfrm>
            <a:off x="4114800" y="5029200"/>
            <a:ext cx="1030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view D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the “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red flag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that employers watch for?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5" descr="red flag"/>
          <p:cNvPicPr/>
          <p:nvPr/>
        </p:nvPicPr>
        <p:blipFill>
          <a:blip r:embed="rId1"/>
          <a:stretch/>
        </p:blipFill>
        <p:spPr>
          <a:xfrm rot="19785600">
            <a:off x="1752120" y="3428640"/>
            <a:ext cx="1351080" cy="1685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waving finger"/>
          <p:cNvPicPr/>
          <p:nvPr/>
        </p:nvPicPr>
        <p:blipFill>
          <a:blip r:embed="rId2"/>
          <a:stretch/>
        </p:blipFill>
        <p:spPr>
          <a:xfrm rot="1618200">
            <a:off x="5867280" y="3809520"/>
            <a:ext cx="15004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 these “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d flag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 say to an employer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52280" y="1523880"/>
            <a:ext cx="434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got your resume/ portfol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tidy h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verload of jewelry, piercings/tatto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ell of cigarette smo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or pos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or speaking skills, slander, profa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ponding with only yes and no answ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aking poorly of previous 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lking too much about topics not relevant to the ques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aring a ball cap or sunglasses in the intervi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796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ck of enthusiasm or confid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demonstrating where you can add val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prepared for basic interview ques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es not listen well, cuts interviewer of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ves without asking any ques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es not follow up with a thank you ca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firm handsha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eye cont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ressed in street clothes- crumpled, dirty, shoes untied or dir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getting to bring 3 refere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llow U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d a thank you note or email, thanking them for their time and conside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any information you may have forgotten or clarify a specific interview ques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do not get the position, call and ask for constructive feedbac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ember that each interview is a valuable experienc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8" descr="email"/>
          <p:cNvPicPr/>
          <p:nvPr/>
        </p:nvPicPr>
        <p:blipFill>
          <a:blip r:embed="rId1"/>
          <a:stretch/>
        </p:blipFill>
        <p:spPr>
          <a:xfrm rot="927600">
            <a:off x="7010280" y="205704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thank you note"/>
          <p:cNvPicPr/>
          <p:nvPr/>
        </p:nvPicPr>
        <p:blipFill>
          <a:blip r:embed="rId2"/>
          <a:stretch/>
        </p:blipFill>
        <p:spPr>
          <a:xfrm rot="1153200">
            <a:off x="6533640" y="4871880"/>
            <a:ext cx="1638360" cy="1278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red phone"/>
          <p:cNvPicPr/>
          <p:nvPr/>
        </p:nvPicPr>
        <p:blipFill>
          <a:blip r:embed="rId3"/>
          <a:stretch/>
        </p:blipFill>
        <p:spPr>
          <a:xfrm rot="20179200">
            <a:off x="4648320" y="312372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ings to remember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erview is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WO-W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nly way to get the best match is f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ach pa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interview each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views require you to plan and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lling your skills and 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is the purpose of an interview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s candidates and employers to meet each oth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eates a place for asking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s if an appropriate working match is m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erves to determine if a job applicant meets the job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hat type of interviews are out the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752480"/>
            <a:ext cx="335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hone Intervie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ld be used to initiate cont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ld be used if there is a large distance between you and the emplo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219280" y="25905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-pers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-on-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10" descr="red phone"/>
          <p:cNvPicPr/>
          <p:nvPr/>
        </p:nvPicPr>
        <p:blipFill>
          <a:blip r:embed="rId1"/>
          <a:stretch/>
        </p:blipFill>
        <p:spPr>
          <a:xfrm rot="916800">
            <a:off x="3580920" y="220968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n the employer calls to arrange an interview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e/time/p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o is doing the interview (get their names)- is it a panel or one-on-one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rm that you have a portfolio and would like to bring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rm that the interview is for the job you applied f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k for a job descri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43434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do your research before the interview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researching you are demonstrating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organ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preparation ski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It will build your confidence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will want to know about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you will be do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compan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expectations of the jo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7" descr="BD18210_"/>
          <p:cNvPicPr/>
          <p:nvPr/>
        </p:nvPicPr>
        <p:blipFill>
          <a:blip r:embed="rId1"/>
          <a:stretch/>
        </p:blipFill>
        <p:spPr>
          <a:xfrm rot="1309200">
            <a:off x="5498640" y="1757520"/>
            <a:ext cx="22557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questions may you be ask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1233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rs will ask questions about your PAST, PRESENT, &amp; the FU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066680" y="2819160"/>
            <a:ext cx="6934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, experiences and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availability, abilities, certifications and ski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you handle the responsibilities of the position? Futur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questions may you be ask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423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 me about yoursel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your last jo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id you leave your last jo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your favorite school subject? What is your least favorit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your 3 greatest strength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 you consider to be an area for developm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have you demonstrated responsibility in your pas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your interests outside of schoo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52520" y="201780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are you interested in this posi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3 words best describe y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kind of work environment would you like to work in?  How can you ensure your workplace is this w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a time when you demonstrated initiativ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a time when you handled a situation poorly; what did you learn? How could you act differently next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should I hire y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questions CANNOT be ask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02" name="Picture 10" descr="gay married couple"/>
          <p:cNvPicPr/>
          <p:nvPr/>
        </p:nvPicPr>
        <p:blipFill>
          <a:blip r:embed="rId1"/>
          <a:stretch/>
        </p:blipFill>
        <p:spPr>
          <a:xfrm rot="1382400">
            <a:off x="7238520" y="2742840"/>
            <a:ext cx="1432080" cy="1523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hindu woman"/>
          <p:cNvPicPr/>
          <p:nvPr/>
        </p:nvPicPr>
        <p:blipFill>
          <a:blip r:embed="rId2"/>
          <a:stretch/>
        </p:blipFill>
        <p:spPr>
          <a:xfrm rot="20415000">
            <a:off x="5866920" y="2057400"/>
            <a:ext cx="943200" cy="1409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handcuffed hands"/>
          <p:cNvPicPr/>
          <p:nvPr/>
        </p:nvPicPr>
        <p:blipFill>
          <a:blip r:embed="rId3"/>
          <a:stretch/>
        </p:blipFill>
        <p:spPr>
          <a:xfrm rot="20489400">
            <a:off x="6400800" y="5105520"/>
            <a:ext cx="1670040" cy="10508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9"/>
          <p:cNvSpPr/>
          <p:nvPr/>
        </p:nvSpPr>
        <p:spPr>
          <a:xfrm>
            <a:off x="609480" y="21337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thing relating to religion, marital status, sexual preference, ethnic origin, age, gender, weight, criminal record, disability, and other health issues are OFF LIMIT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17" descr="overweight person"/>
          <p:cNvPicPr/>
          <p:nvPr/>
        </p:nvPicPr>
        <p:blipFill>
          <a:blip r:embed="rId4"/>
          <a:stretch/>
        </p:blipFill>
        <p:spPr>
          <a:xfrm>
            <a:off x="5410080" y="3962520"/>
            <a:ext cx="935280" cy="1238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9" descr="wedding hands"/>
          <p:cNvPicPr/>
          <p:nvPr/>
        </p:nvPicPr>
        <p:blipFill>
          <a:blip r:embed="rId5"/>
          <a:stretch/>
        </p:blipFill>
        <p:spPr>
          <a:xfrm rot="687600">
            <a:off x="1981080" y="4572000"/>
            <a:ext cx="1495440" cy="809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0" descr="world religions"/>
          <p:cNvPicPr/>
          <p:nvPr/>
        </p:nvPicPr>
        <p:blipFill>
          <a:blip r:embed="rId6"/>
          <a:stretch/>
        </p:blipFill>
        <p:spPr>
          <a:xfrm rot="20886000">
            <a:off x="304920" y="5028840"/>
            <a:ext cx="1511280" cy="1523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1" descr="young black person"/>
          <p:cNvPicPr/>
          <p:nvPr/>
        </p:nvPicPr>
        <p:blipFill>
          <a:blip r:embed="rId7"/>
          <a:stretch/>
        </p:blipFill>
        <p:spPr>
          <a:xfrm rot="20210400">
            <a:off x="3657240" y="53337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2" descr="male female symbols"/>
          <p:cNvPicPr/>
          <p:nvPr/>
        </p:nvPicPr>
        <p:blipFill>
          <a:blip r:embed="rId8"/>
          <a:stretch/>
        </p:blipFill>
        <p:spPr>
          <a:xfrm>
            <a:off x="7467480" y="1143000"/>
            <a:ext cx="11718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questions could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yo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ask in your interview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some of the responsibilities of this posi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you hi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busiest times of busine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I make a difference to this busine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hours of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s technology changing this occup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raining do you offer your employ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advancement opportunities within the organiz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does this company expect to be in 5 yea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expected dres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2:14:27Z</dcterms:created>
  <dc:creator>Keely</dc:creator>
  <dc:description/>
  <dc:language>en-US</dc:language>
  <cp:lastModifiedBy>Janet S.</cp:lastModifiedBy>
  <dcterms:modified xsi:type="dcterms:W3CDTF">2009-05-01T17:48:08Z</dcterms:modified>
  <cp:revision>62</cp:revision>
  <dc:subject/>
  <dc:title>Interview Skills Building</dc:title>
</cp:coreProperties>
</file>